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1D91-B516-49D4-AD7C-EA16A0A3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B07-1847-413D-9C1A-D38CDFFE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853-4163-48B6-8519-F178FD45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674-0EC9-4AEB-A273-99DC5E4C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4F8-3B12-46B8-8883-95226627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120-C520-4415-BDD1-65ECFACA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8E2-0FFF-4331-89F8-6C7EC90A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E90-CDCD-4387-B54D-0FF64F65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9A6-FDDC-47A3-BC35-884DD4AA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F27-9E6E-4C8F-9971-3F8D2D0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D32-CBAF-4DB5-B155-0EC4869E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79C-C21A-4C3C-BFBF-BE710AB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057-9DED-4C93-A949-7B38045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8F3-41E1-4BF8-949A-0004A79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54B-D902-42B6-92F7-2CE04AB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236-FDF6-4F0A-B191-34C58C6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0430-FD2E-42C0-8850-58CBD21BE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358920" y="641520"/>
            <a:ext cx="8026200" cy="551520"/>
            <a:chOff x="358920" y="641520"/>
            <a:chExt cx="8026200" cy="551520"/>
          </a:xfrm>
        </p:grpSpPr>
        <p:sp>
          <p:nvSpPr>
            <p:cNvPr id="49" name="Line 4"/>
            <p:cNvSpPr/>
            <p:nvPr/>
          </p:nvSpPr>
          <p:spPr>
            <a:xfrm>
              <a:off x="533520" y="68580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4952880" y="64152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358920" y="73332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7624800" y="69048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4807080" y="71928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358920" y="1434960"/>
            <a:ext cx="84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= 3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= 2x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.  Then find RS and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4"/>
          <p:cNvGrpSpPr/>
          <p:nvPr/>
        </p:nvGrpSpPr>
        <p:grpSpPr>
          <a:xfrm>
            <a:off x="511200" y="793800"/>
            <a:ext cx="8026200" cy="551520"/>
            <a:chOff x="511200" y="793800"/>
            <a:chExt cx="8026200" cy="551520"/>
          </a:xfrm>
        </p:grpSpPr>
        <p:sp>
          <p:nvSpPr>
            <p:cNvPr id="56" name="Line 5"/>
            <p:cNvSpPr/>
            <p:nvPr/>
          </p:nvSpPr>
          <p:spPr>
            <a:xfrm>
              <a:off x="685800" y="83808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>
              <a:off x="5105160" y="7938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511200" y="88560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7777080" y="8427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4959360" y="8715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511200" y="1587600"/>
            <a:ext cx="84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= 8y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= 4y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= 15y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.  Then find RS, ST and 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4"/>
          <p:cNvGrpSpPr/>
          <p:nvPr/>
        </p:nvGrpSpPr>
        <p:grpSpPr>
          <a:xfrm>
            <a:off x="511200" y="793800"/>
            <a:ext cx="8026200" cy="551520"/>
            <a:chOff x="511200" y="793800"/>
            <a:chExt cx="8026200" cy="551520"/>
          </a:xfrm>
        </p:grpSpPr>
        <p:sp>
          <p:nvSpPr>
            <p:cNvPr id="63" name="Line 5"/>
            <p:cNvSpPr/>
            <p:nvPr/>
          </p:nvSpPr>
          <p:spPr>
            <a:xfrm>
              <a:off x="685800" y="838080"/>
              <a:ext cx="731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5105160" y="793800"/>
              <a:ext cx="92160" cy="91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511200" y="88560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7777080" y="8427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4959360" y="87156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0"/>
          <p:cNvSpPr/>
          <p:nvPr/>
        </p:nvSpPr>
        <p:spPr>
          <a:xfrm>
            <a:off x="511200" y="1587600"/>
            <a:ext cx="84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= 5x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=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.  Then find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0:58:53Z</dcterms:created>
  <dc:creator> </dc:creator>
  <dc:description/>
  <dc:language>en-US</dc:language>
  <cp:lastModifiedBy>Administratr</cp:lastModifiedBy>
  <dcterms:modified xsi:type="dcterms:W3CDTF">2010-08-06T00:38:15Z</dcterms:modified>
  <cp:revision>6</cp:revision>
  <dc:subject/>
  <dc:title>Slide 1</dc:title>
</cp:coreProperties>
</file>